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088-99BE-4DBB-9625-A1E546D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098-B65A-469C-987D-984EECE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C69-6233-4127-9975-220679FB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AA6-425D-4E6B-AC90-01E23C1E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2C0-AA1A-4D37-B62B-3142007C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D3A6-23EF-4E86-9AE4-4F4D123C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C76-2590-4C3B-BEF1-D1CA0DC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A63-716F-4D07-B865-6657B1F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F09-5E61-4BA1-8B8C-5E8F1274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E46-60B2-4D12-8AFF-C095BC5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6D56-9DC5-4EA4-A552-336F146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8EE-E8FB-4D5F-92D5-8F9C4EC5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939-46FA-4158-8FB2-D2AC29E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0BCE-516A-4469-9933-EF497801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EF9-E48C-44BB-970F-252276A9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B05A-6383-4E8F-A246-DC3BF78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00CB-C10A-4409-A166-B792525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D32-5D90-4DE8-9CE1-5896FED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932-22F1-4E37-977B-24B24BAD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597-95BE-47DD-AEA9-FBE2A9D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39C-5052-4DE2-A5F3-9C3F94E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2B8-781F-4F1A-B9A4-9DC1EEA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7B3-5174-4D99-8393-4D1331F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298-14EF-4CCE-92D8-C7FA0FF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F7C-EDFA-4252-91D1-200B70BC8C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BF9-C52F-44B9-A0BB-65CEBFA89B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son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king the Pa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chae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haeologis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people who study objects from the past to learn about the people who made and used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tifac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man-made historical ob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archaeological excavation meant to dig up or find artif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s many experts to find and handle arti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haeologists choose dig sites using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el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r mound that may cover historic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an archaeological dig work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 an air and ground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aeologists draw map and section land into squa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records using compu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 slowly and carefully, one layer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nd artifacts are photographed, recorded, and tag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8863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958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239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21:55:13Z</dcterms:created>
  <dc:creator>erin.hendricks</dc:creator>
  <dc:description/>
  <dc:language>en-US</dc:language>
  <cp:lastModifiedBy>erin.hendricks</cp:lastModifiedBy>
  <dcterms:modified xsi:type="dcterms:W3CDTF">2011-08-23T22:06:09Z</dcterms:modified>
  <cp:revision>2</cp:revision>
  <dc:subject/>
  <dc:title>Lesson 2</dc:title>
</cp:coreProperties>
</file>